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01A01-46B6-4B3C-833A-A210CEF05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DDDA-941D-4D72-A9E1-485F18E23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A8F9-6A96-4395-9F25-0285128F4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FF23-7CD5-4743-82E4-06DD21ECA5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4186-40AD-4DD6-8B1C-BCBC44DE47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F61F-F3CF-4B51-AD4C-7326D9D08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80061-341C-416F-B52A-A2A163654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8507-4AC5-43C3-B6DD-8ED236757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F901-7745-40E6-8311-7FC612BF9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7E05-2BD0-47BC-8A34-A4F7DDBFD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2B82-7CF7-4409-8438-F839FD39B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64D2-EB5F-48C2-A166-DBFE951AF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1DAECB-21DE-497C-A703-E751F3D1136E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Resolutsioonimeetod ja Davis-Putnami (DPLL) meetod lausearvutus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ks efektiivsemaid meetodeid kehtestatavuse kontrolliks on resolutsioonimeetod. DPLL on selle täiendatud erivariant, mis sobib eeskätt lausearvutuse jaok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 näide 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30720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antud klauslite hulk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lgu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S, n :=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Kui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aldab tühja klauslit, lõpeta vastusega “vastuolulin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lgu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+1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lga Sn kõigi resolventide hu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Kui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+1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õpeta vastusega “kehtestatav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Vastasel korral omista n := n + 1 ning pöördu tagasi sammu 2 juur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kompaktsema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0800" y="1905120"/>
            <a:ext cx="693900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 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415880"/>
            <a:ext cx="7416720" cy="38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 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487520"/>
            <a:ext cx="439092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 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in võiks töö peatada: vastuolu on kä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604880"/>
            <a:ext cx="637236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 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1738440"/>
            <a:ext cx="7559640" cy="138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A super method for proving properties of constructed or order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From specific to more gener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Simple mathematical induction on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Structural induction on lists, tree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Well-founded induction on ordered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induction (wikiped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ve that a statement involving a natural numb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olds for all valu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 proof consists of two 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basis (base ca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: showing that the statement holds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is equal to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lo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value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is given in the question. Usu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= 0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=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inductive st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: showing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the statement holds for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the statement also holds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 + 1 is substituted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92000" y="1371600"/>
            <a:ext cx="6937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al induction (wikiped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the idea is that one wishes to prove some proposi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y instance of some sort of recursively defined structure such as lists or tre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well-founded partial ord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defined on the structures ("sublist" for lists and "subtree" for tree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ructural induction pro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proof that the proposition holds for all the minimal structures, and that if it holds for the immediate substructures of a certain struc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it must hold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. (Formally speaking, this then satisfies the premises of an axiom of well-founded induction, which asserts that these two conditions are sufficient for the proposition to hold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engu kav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Normaalkujude meeldetule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Baas-resolutsioonimeetod lausearvut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Induktsi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Resolutsioonimeetodi korrektsus ja täielikk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Resolutsioonimeetodi elementaarsed strateegi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Horni reeglid ja resolutsioonimeetodi keerukus erijuhtu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DP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DPLL tehnoloogi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al induction (wikiped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if the structures are lists, one usually introduces the partial order '&lt;' in whi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ever li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tail of li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this ordering, the empty list [] is the unique minimal ele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ructural induction proof of some proposi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n consists of two par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 proof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([]) is tr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proof that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) is true for some li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, and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is the tail of li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, t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) must also be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founded induction (wikiped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well-founded relatio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some property of element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we want to show tha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holds for all elem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suffices to show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is an elemen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) is true 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y R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) must also be tru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48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ore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Korrektsu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klausel D on klauslite hulgast S resolutsioonimeetodiga tuletatav, siis kehtib valem S =&gt; 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91064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ore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Täielikku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muutujateta klauslite hulgal S ei ole ühtegi mudelit, siis on tühi klausel hulgast S resolutsioonimeetodiga tuletata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utame Boyeri tõestust aastast 71, mis kasutab induktsiooni mõõdul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16040" y="3886200"/>
            <a:ext cx="83217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ktsiooni baasju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818532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ktsiooni samm: alg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20120" cy="2762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74599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ktsiooni samm: jä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82172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lamisstrateegia (subsumption)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elline resolutsioonimeetodi täiendus, kus eemaldatakse kõik sellised disjunktid D, mille jaoks on disjunktide hulgas olemas disjunkt E mis on D alamhu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te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 B  neelab C v A v D v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elab A v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lamisstrateegia (subsumption)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äilitab resolutsioonimeetodi täielikk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2282760"/>
            <a:ext cx="7915320" cy="22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utoloogiate eemaldamine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elline resolutsioonimeetodi täiendus, kus eemaldatakse kõik sellised disjunktid D, mis on tautoloogi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te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 v A v B  v C    on tautoloogi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 v B                  ei ole tautoloogi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od töötab valemitega, mis 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ktiivsel normaalkuju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al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ausemuutuja või selle eitu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sel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hk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disjunk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hk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õpliku hulga literaalide disjunktsio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õpliku hulga klauslite konjunktsi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utoloogiate eemaldamise täielikkuse tõest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isab tähelepanekust, et k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-L v L v F         </a:t>
            </a:r>
            <a:r>
              <a:rPr b="0" lang="et-EE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 v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v F v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is reegli eeldus L v D neelab reegli järeld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n clause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disjunkt, kus ei ole rohkem, kui üks positiivne litera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 v -B v C         on 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 v -B                on 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 v -B v C v D   ei ole 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 B                   ei ole 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hikresolu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elline resolutsioonimeetodi strateegia, kus üks resolutsioonireegli argumentidest peab olema positiivne ühikdisjunkt (aat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oreem: ühikresolutsioon on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äieli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rni disjunktidest koosneva hulga ja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õestus: induktsiooniga analoogiliselt resolutsioonimeetodi täielikkuse tõestuse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hikresolutsiooni keerukus Horni juh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 tähe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a ühikresolutsioonreegli rakendamine Horni juhul tekitab disjunkti, mis on lühem ja neelab eelduseks oleva disjunk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        -A v –B  v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 v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3720" y="1681200"/>
            <a:ext cx="8296560" cy="34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9960" y="1819440"/>
            <a:ext cx="8344080" cy="32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 tähe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KB suurus on N, siis saab sellele rakendada maksimaalselt N ühikresolutsiooni samm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rukus on lineaar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LL idee on kasutada ära ühikresolutsiooni kui lineaarse keerukusega lahendajat ja lammutada mitte-horni-kujul reeglid rekursiivselt horni kujul tükkide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DPLL (wi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s, Martin; Putnam, Hilary (19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s, Martin; Logemann, George, and Loveland, Donald (196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P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clauses Φ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A Truth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DPLL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is a consistent set of literals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tru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ontains an empty clause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for every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unit clause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←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unit-propagate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);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for every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literal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that occurs pure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←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pure-literal-assig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←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choose-litera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DPL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)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DPL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ot(l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Tähelepanek: konjuktiivset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alkuju võib vaadelda ka lõpliku hulga atomaarjäreldustena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onjunktiivset normaalkuj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ib vaadelda hulg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), (q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), (p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), (r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) Triviaalne juhtum: ei ole vaja split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44848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) Mittetriviaalne juhtum: on vaja split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98380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na algoritm ise on väga lihtne, siis keskendub kiiremate algoritmide otsimine sellele, kuidas valida paremini hargnemissümbol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htne heuristik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 lausesümbol p, mis maksimeerib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_ , kus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slite arv, kus p esineb positiivselt, ja n_ on klauslite arv, kus n esineb negatiivse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da esmalt S[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, kui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_ , ning esmalt S[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, kui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n_ 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meetodi põhiideeks on tuletada etteantud klauslite hulgast, mis esitavad reegleid ja fakte, uusi klausle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õige lihtsam versioon kasutab kaht tuletusreegl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reegel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us ponensi üldist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ktoriseerimisreegel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opeltmuutujate eemaldam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sikaline modus pone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-&gt; 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a, kuid A-&gt;B esitatud disjunkti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-</a:t>
            </a: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 v  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reegel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odus ponensi üldistus suvaliste disjuntide pea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t-EE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t-EE" sz="28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et-E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t-EE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t-E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———————————————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ulisel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ame muutuja A</a:t>
            </a:r>
            <a:r>
              <a:rPr b="0" lang="et-EE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 on esimeses valemis positiivne ja teises negatiiv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õikame nii A</a:t>
            </a:r>
            <a:r>
              <a:rPr b="0" lang="et-EE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lang="et-EE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ra ja kleebime ülejäänud kok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ktoriseerimisreegel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peltliteraalid võib kõrvalda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t-E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t-EE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 </a:t>
            </a:r>
            <a:r>
              <a:rPr b="1" lang="et-EE" sz="32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et-E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</a:t>
            </a:r>
            <a:r>
              <a:rPr b="1" lang="et-EE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————————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t-E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t-E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t-EE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 tähe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faktoriseerimisreegli rakendamisel klauslile C saame uue klausli C’, siis võime kustutada eelduse C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Miks: iga tõestuse, mis kasutab C saab ümber kirjutada tõestuseks, mis kasutab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’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-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üüpiliselt rakendatakse meetodit klauslite hulga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olulisus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äitamiseks. Kui tahame tõestada valemi F tuletatavust, on see samaväärne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vastuolulisuse tõestamis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3:21:20Z</dcterms:created>
  <dc:creator>Tiina Zingel</dc:creator>
  <dc:description/>
  <dc:language>en-US</dc:language>
  <cp:lastModifiedBy>Tanel</cp:lastModifiedBy>
  <dcterms:modified xsi:type="dcterms:W3CDTF">2013-02-04T13:43:13Z</dcterms:modified>
  <cp:revision>28</cp:revision>
  <dc:subject/>
  <dc:title>Resolutsioonimeetod lausearvutuses.</dc:title>
</cp:coreProperties>
</file>